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904B-4D78-4245-8E2B-8772DBB4C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86C5-D38F-4B87-9F76-7B6F46B2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7A61F6-0E71-47B1-9E58-7FC2861F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5C9731-3FB4-48F9-870C-9519F9E3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DBCBC8-F13E-495E-BE97-27005BCA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2ABC99-81D8-4E64-B8BE-1102C4B2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E8EF0C-2E6D-43AB-8F31-496CE54F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C1F2AD-4A7B-4748-9228-8ACFDFEE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382C60-CFCB-4C7D-856E-B7A587C1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0F37E3-B343-4040-9AE3-D9B415367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C01C19-9FD1-4FB9-A77B-E1D6B002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19D890-7F7E-4060-9143-AE2F5902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2998-B35E-40C8-9B78-4B6B92809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581608-47A2-4255-A1EA-975F2B9F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45B137-1DBB-428B-A090-968EB8E6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789801-5B3A-4864-B1B8-B474BC64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7D3FA2-41A9-4DF8-8928-982A77F5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86401F-6EE7-41F9-9C71-364DD685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0B7CF3-F556-4960-8910-010DC883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B4211C-DA4F-475A-89D4-DCD17715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2DAC44-0593-4AFB-A9F4-38491484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51D987-D11F-4E62-991D-4C085BF6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88F0DF-CBAA-47BC-840A-280B149C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B077-D86B-41C1-AFDA-96B59DD46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92D559-08E6-43FB-B438-14B32129F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AA4DB-52EB-47CB-8271-DB0A6CCB3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6634D-AC1C-4549-938C-9542139C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506A9-761C-4E43-A609-575A4575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E2ADF-0BAC-45D2-AF4F-3B487390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3F587-D2AC-4746-815D-5D702A5A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AE6CE-8367-43B0-8682-85A37640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67209-EFAE-4DEF-A010-2A663057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78CF8-D1F4-4216-A7C7-46F79CC7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F7AD4-5ACE-4B08-B33B-2FA798A3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1886-4FDB-43D1-97E6-72CEB6E32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A5B09-C28D-4CAB-8FBD-1AC7205B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0192B-0C3B-4CD0-BB61-BB562362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CFA85-8160-4520-A1D2-5FEBF4215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6F91DC-AF05-4C34-B46F-445554137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150CA7-162E-4A64-B892-CF0A419C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17BA30-BE74-43BC-8EC6-B96990BA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05946E-9046-4A78-8EF7-C080B339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C8AFEF-C61E-4608-B3B4-7D361301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15280E-51F0-438E-9631-7C56A8E8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81186A-7A0C-462A-86BB-7A9DF70D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BADC-DE16-4AAF-97F0-E1EA3C76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03E660-D2F5-4181-BEB8-4CF59494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D03F7D-A03C-42FF-987B-B14EBC80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CE8782-3F73-4232-A189-6FB1ECDE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3D371F-8A31-467A-9EBF-FC5EE6CAF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33C591-9F6C-4F10-B549-8A02DE171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ABD7-A389-43DC-AE42-364A0809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6A98-D28C-4FD3-AD31-7DD66B76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D9DA-EB03-45E6-A711-21191244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310F-9DA3-4137-B013-1116F54E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780C-D1A9-4401-98DF-DA62E2B0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DAD8-04B2-49C8-B454-2F9E6770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B977-AD0B-491D-8785-5E423AA0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C607-9F24-47F9-82A6-EE9C753D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E9C2-5144-4409-83E8-205497F1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DF6B-C954-40E0-88B5-E5F149A4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066D-D89D-4B65-88E2-6423C7A5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B8D9C-394B-45C8-B1C1-7F843338E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6F433-1EFB-4D57-9C61-06E3A836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375AB-3DF7-4701-96C8-4FD44699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6CE0B-A014-4FB1-BB73-BCB0F06A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D8D75-7FC3-4D78-9685-D7788EAC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6A41-5D1C-4841-8CAE-A776103A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F61E4-597F-4FDC-B1F1-E47E0081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6CDA4-2917-40D0-8CCC-6A8DF233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A2D98-2067-40B9-99C5-C5952CF1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F6A44-490E-47BC-8E6C-A778BF88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6EDA9-35D6-473A-BD3B-40EB36E5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3D0A1-1899-41E5-B57E-E99D8662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A3BEF-E533-411D-A5BC-34652084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3A498-08DB-416F-BFD2-70F711FEA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F658D-3858-48F1-879E-1548EC51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1C766-216A-431C-968C-65D195DE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46A2-EAFD-4B3B-AB2E-04992906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2699B-2F6D-4B52-9E65-E9A9DA70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AFD79-F2B8-4ABB-8D94-DA203525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F2BC4-C94F-4CD9-A98C-4E51A094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9923E-A54E-4D01-B370-300EF319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EE8C5-CC3B-4824-A3A0-45DAADD2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653D7-EE7D-4146-8758-E73E0228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EE832-9AA2-4E90-91CF-1DD51469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F652B-9F77-48A6-966C-2A1A02717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23732-9CBD-41B8-A613-F18E9880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AD91B-4308-4699-A95A-1D723A619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9A72-6F30-4717-9C40-595F48C0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57D42-8C79-4F52-9559-44F069BE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74314-6E89-4A61-9163-30AAFA8D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B803E-3B26-44DD-A620-0E94B8A5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B1120-9246-4F5E-8B59-735487B5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BA53F-144B-4040-ADF1-85AA1193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3DE21-CDC8-4A5D-AA9B-59815242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9B0D2-F238-4E36-B7BC-EA88280C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2E0BC-38D7-42AF-B69F-27B8654E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97908-18B2-47D0-96C5-40ACF08D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B3050-EA71-4872-945C-EA7CA51A4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AC62-1C53-4E34-BCD0-D3192602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FFBCE-5448-4DD8-A28A-6853C7A00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15A86-E11B-4DC4-8216-1E2055FE7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FD880-C8CB-40AF-8A3C-70FEE65F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72C08-7F02-4995-A810-3681D143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303BE-1F81-4172-8E62-3D4D8C90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F6883-B4B8-410C-8EEA-F258C13B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FF1A5-B108-4636-A0AF-9B473A60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419A9-8189-4A2A-9B5F-4330FC56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00F0F-E9A7-48BF-B676-23DED979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5207F-E7A2-4D56-A318-ACDA426D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2E1D-5587-44C7-944D-A14EF033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53204-ED3D-479E-8885-90FD245E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7F643-04D1-46A4-9796-6A5BA1D9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FC27A-1460-443C-B65D-7A5F3EB8D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A7283-62CE-4AAC-848C-28710C443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69618-9A4C-4F08-8163-07E5A7F9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5245D-B990-473C-863C-3094A763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3FD9A-5E6B-44C0-8818-4B329455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710DF-1544-48F6-89A0-73F55B9A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93E6B-A146-456D-A836-9ED57B64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65908-201E-4C9D-9682-AB9ED748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36F3-758B-44C6-A157-0C07D5E5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8C7E9-CC8A-48EC-9713-B00D7E59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6A7A1-87C1-4338-8AA1-6E4B4A08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9A575-1679-4485-8612-828BB9D1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5DC45-C951-484C-9EFA-6E979BAD1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BD6FE-88CC-4A68-8639-1505CA56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2023B-15A6-4784-ADEE-B171BD34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463A7-55DC-4241-84BE-F66EF021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8F7CC-7758-44CB-A734-1197CA92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B9E92-2D38-4637-8A27-284AC738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FB6C8-D834-4051-B650-F2B6F871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D0F3-944B-498C-B396-052D3D84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C89F3-93DB-4E44-9722-E778E67C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00F2E-2B39-4D59-AEDC-44ED903F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D68C7-4A63-49FF-9B8E-3EB2A0D4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C1FC6-36BA-4085-AA4B-5CF484F3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4217A-C46E-4778-9085-C594EA59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9411D-5D0F-4222-9A41-EFC4AC43B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B4267-0C87-435F-B7C5-145468AC5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F6D020-3156-4E06-B6E0-88FAB0AD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D408C1-F7D8-4FDF-8148-D946FEA5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6FA812-ABAC-4223-9E3D-9DC05ACF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0059-5B14-4040-B95F-E219EAE84EF8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Birbaşa Birləşdirici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Düzbucaqlı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Düzbucaqlı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Düzbucaqlı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Düzbucaqlı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Düzbucaqlı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Düzbucaqlı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F259-BE8A-4B5D-901F-031EEB0B66A8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3E9D-6057-47CC-B710-0159DB45494F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Düzbucaqlı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Düzbucaqlı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Düzbucaqlı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Birbaşa Birləşdirici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11F0-FB3D-4377-B892-5F1CD94E351D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üzbucaqlı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üzbucaqlı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üzbucaqlı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Birbaşa Birləşdirici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üzbucaqlı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7CC1-DC2F-404D-B575-5E793BC05859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4DAF-B057-443B-B929-A66300E8913E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üzbucaqlı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üzbucaqlı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üzbucaqlı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üzbucaqlı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üzbucaqlı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üzbucaqlı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üzbucaqlı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Birbaşa Birləşdirici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7DEF-72E7-4729-99D6-CC8CA5491747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Birbaşa Birləşdirici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A8C1-F285-420D-9154-0243A4CB5B52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Birbaşa Birləşdirici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üzbucaqlı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üzbucaqlı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Düzbucaqlı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Düzbucaqlı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Düzbucaqlı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Birbaşa Birləşdirici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Düzbucaqlı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C34F-40E3-402C-87FF-10254633B929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5AC6-84F9-42F5-A501-0C288C2F355F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Düzbucaqlı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Düzbucaqlı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6F09-96E8-4476-B32D-D35F800E3C78}" type="slidenum">
              <a:rPr b="0" lang="az-Latn-AZ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Düzbucaqlı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Düzbucaqlı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Düzbucaqlı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Düzbucaqlı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Düzbucaqlı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Birbaşa Birləşdirici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Düzbucaqlı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5BB2-07A4-46BE-9063-8394E8DBDEF0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56760" y="3286080"/>
            <a:ext cx="83581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00000"/>
                </a:solidFill>
                <a:latin typeface="Georgia"/>
              </a:rPr>
              <a:t>The Central Eurasian Region in the Contemporary Architecture of the World Monetary and Financial System</a:t>
            </a:r>
            <a:endParaRPr b="0" lang="en-US" sz="21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Mətn Qutusu 5"/>
          <p:cNvSpPr/>
          <p:nvPr/>
        </p:nvSpPr>
        <p:spPr>
          <a:xfrm>
            <a:off x="1143000" y="571680"/>
            <a:ext cx="6858000" cy="20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Georgia"/>
              </a:rPr>
              <a:t>INTER-REGONAL BANKING COOPERATION: </a:t>
            </a:r>
            <a:br>
              <a:rPr sz="1800"/>
            </a:br>
            <a:r>
              <a:rPr b="1" lang="en-GB" sz="1800" spc="-1" strike="noStrike">
                <a:solidFill>
                  <a:srgbClr val="002060"/>
                </a:solidFill>
                <a:latin typeface="Georgia"/>
              </a:rPr>
              <a:t>SOLID FINANCIAL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INTERNATIONAL CONFER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MAY 27, 2010, BA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4214880" y="4857840"/>
            <a:ext cx="4562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LDAR ISMAI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ZERBAIJAN BANKS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357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Slide 1. Structure of Central Eurasia’s </a:t>
            </a:r>
            <a:br>
              <a:rPr sz="2400"/>
            </a:b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Geopolitical Expanse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3" name="Picture 3" descr=""/>
          <p:cNvPicPr/>
          <p:nvPr/>
        </p:nvPicPr>
        <p:blipFill>
          <a:blip r:embed="rId1"/>
          <a:srcRect l="2632" t="18233" r="2632" b="3916"/>
          <a:stretch/>
        </p:blipFill>
        <p:spPr>
          <a:xfrm>
            <a:off x="492120" y="2000160"/>
            <a:ext cx="81518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4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8308800" cy="450036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5840" y="3128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Slide 2. The CEA Countries in the Global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onetary Expanse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8858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Latn-AZ" sz="2400" spc="-1" strike="noStrike">
                <a:solidFill>
                  <a:srgbClr val="000066"/>
                </a:solidFill>
                <a:latin typeface="Georgia"/>
              </a:rPr>
              <a:t>Slide 4.</a:t>
            </a: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ain Indices of CEA, World and Regional Nations and Associations (2008, %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1035000" y="1643040"/>
          <a:ext cx="7323120" cy="4361040"/>
        </p:xfrm>
        <a:graphic>
          <a:graphicData uri="http://schemas.openxmlformats.org/drawingml/2006/table">
            <a:tbl>
              <a:tblPr/>
              <a:tblGrid>
                <a:gridCol w="2190960"/>
                <a:gridCol w="1852560"/>
                <a:gridCol w="1736640"/>
                <a:gridCol w="1542960"/>
              </a:tblGrid>
              <a:tr h="2779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on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i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p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DP 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PP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 gridSpan="4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2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4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204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rk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ki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ddle E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320" y="31284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Slide 4. Main Trade Partners of the CEA Countrie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(2008, %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tretch/>
        </p:blipFill>
        <p:spPr>
          <a:xfrm>
            <a:off x="604800" y="1643040"/>
            <a:ext cx="793440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320" y="384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Slide 5. </a:t>
            </a: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ain West-East and North-South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Currency Axes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1" name="Picture 2" descr=""/>
          <p:cNvPicPr/>
          <p:nvPr/>
        </p:nvPicPr>
        <p:blipFill>
          <a:blip r:embed="rId1"/>
          <a:stretch/>
        </p:blipFill>
        <p:spPr>
          <a:xfrm>
            <a:off x="1393920" y="1606680"/>
            <a:ext cx="63561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4:34:54Z</dcterms:created>
  <dc:creator>ABA-BBM</dc:creator>
  <dc:description/>
  <dc:language>en-US</dc:language>
  <cp:lastModifiedBy>ABA-BBM</cp:lastModifiedBy>
  <dcterms:modified xsi:type="dcterms:W3CDTF">2010-05-26T13:27:21Z</dcterms:modified>
  <cp:revision>35</cp:revision>
  <dc:subject/>
  <dc:title>Slayd 1</dc:title>
</cp:coreProperties>
</file>